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3AB2-64AB-4F0B-A77A-D7812B396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71B7-1AD6-4B25-BAEE-11D0F60C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3E8F-52E4-470C-8DAA-B41EA9EE7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24D0-724B-4E7F-805E-814727FF3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55AA-75D3-433D-9E5A-84BF256F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4E09-1D9D-41AE-83C5-C3758A8C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012C-FF19-4CC9-9221-465AD842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12D1-C85D-4FBC-8C68-35DA9169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8826-E315-4F1F-8636-F6F1708A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BCEC-1307-4F43-B30A-533AED72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9484-5BDC-455D-AAD6-FEDE83EA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7C15-8C3E-4AA9-82A4-0832559A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D7E7D-0F3C-49DE-8E54-5E9A18E9F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11826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mages of the Great Dep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8458200" cy="662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731520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891540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38280" y="-379440"/>
            <a:ext cx="7086600" cy="800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77240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9144000" cy="710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915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6868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845820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8686800" cy="662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8229600" cy="5943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5T12:06:41Z</dcterms:created>
  <dc:creator/>
  <dc:description/>
  <dc:language>en-US</dc:language>
  <cp:lastModifiedBy/>
  <cp:revision>1</cp:revision>
  <dc:subject/>
  <dc:title/>
</cp:coreProperties>
</file>